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FB5-5429-4B38-9568-4567EAE4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D00-844D-4E7B-8085-EE5BDFB7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C15-3F11-4027-B09C-90EF00A4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519-DD7F-4200-9392-50F43A50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75E2-0BB0-4FDB-9338-0D9C4BC8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537-8C61-4388-8F3C-A2E10E4A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694C-5F22-4C36-B858-A8EE0B1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4CA-5861-4D90-9639-2DF8941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0ECF-FB9C-4AE5-A57D-1C6D0AAE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6E6-49D7-4006-B38D-7F6A8ADC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F031-370E-4ACB-9C8D-FB3E30E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475-A689-4434-8482-2B06754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3277-30E4-49BE-8FFA-6B49F2B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F8A9-D895-44BB-842D-82257BA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83E4-0034-40F3-A41A-84B3BB34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4A6-2DDD-4048-8E95-AC730C1B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CC4A-0FF5-40C9-92ED-56406B93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8D3-03C5-47B5-AEA6-1E775393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11B-524D-4F8F-8A8A-81D4CEA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6A5-D7A3-4E53-8FEE-067564D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00D-831A-4202-9B1F-FC58BFD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140-A903-4E06-A662-5CEFFCD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28E-D092-4C73-88C3-DBADBCD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A6C-2473-4E02-B19E-477CCE8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0A62-C9A2-474B-89AF-01EAE0CF7C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0154-E240-46C5-A29C-44F20957AD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овторение по теме «Деепричастие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87520" y="611280"/>
            <a:ext cx="848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йте! Дайте мне разглядеть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нько, - продолжал он, поворачи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х, - какие же длинные на вас свитк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беги который-нибудь из вас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смотрю, не шлёпнется ли он на зем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утавшись в пол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9880" y="755640"/>
            <a:ext cx="79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ело зачирикали и запрыгали вороб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960" y="1619280"/>
            <a:ext cx="74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ело зачирикав, запрыгали вороб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6280" y="2556000"/>
            <a:ext cx="75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ристы не стали дожидаться вос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а и двинулись в п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2640" y="378000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ристы, не став дожидаться восхо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а, двинулись в п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120" y="61128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ядеть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24200" y="6112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я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33200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ричать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43480" y="1332000"/>
            <a:ext cx="21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рич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760" y="1979640"/>
            <a:ext cx="22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умать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11120" y="1979640"/>
            <a:ext cx="17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ум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9120" y="270036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ть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48200" y="262728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7480" y="3348000"/>
            <a:ext cx="289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ежаться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26760" y="32749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ежавш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4920" y="397656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чать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35840" y="3924360"/>
            <a:ext cx="12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5840" y="471636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олоть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76892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о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2760" y="5508720"/>
            <a:ext cx="31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вращаться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7480" y="5508720"/>
            <a:ext cx="26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враща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040" y="684360"/>
            <a:ext cx="52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скивая горел костё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160" y="1332000"/>
            <a:ext cx="726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ешествуя по разным странам 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обрели много новых зн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2240" y="2565360"/>
            <a:ext cx="84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обясь о мрачные скалы шумят и пеня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720" y="3635280"/>
            <a:ext cx="73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нувшись я несколько минут не мо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омн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440" y="4788000"/>
            <a:ext cx="798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бята свернули в лес и оглядываясь 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ронам пошли в л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гадайте загад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98440" y="169236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…раясь в б…рега, на быках лежит ду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680" y="298764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рав н…сок, бегут в лес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4643280"/>
            <a:ext cx="84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енькая собачка, св…рнувшись, л…жи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е)лает, (не)кусает, а в дом (не)пуск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24720" y="2205000"/>
            <a:ext cx="1473120" cy="920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08720" y="5573880"/>
            <a:ext cx="1511280" cy="1279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0360" y="3475080"/>
            <a:ext cx="1584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410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20680" y="1197000"/>
            <a:ext cx="89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морфемы указывают на деепричаст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080" y="18446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т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59120" y="183528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евш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67480" y="183528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авшиий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440" y="270036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слове следует писать 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5840" y="33480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ыш..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3280" y="342900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…вш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18760" y="3348000"/>
            <a:ext cx="27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ид…вш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440" y="4140360"/>
            <a:ext cx="76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случае не пишется раздель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3840" y="494172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е)доуме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69320" y="49323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не)задумыва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23840" y="579600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е)нави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42560" y="1844280"/>
            <a:ext cx="7308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0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0000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24000" y="1844280"/>
            <a:ext cx="144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268000" y="1844640"/>
            <a:ext cx="7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11280" y="1773360"/>
            <a:ext cx="289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771280" y="177336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003640" y="1773360"/>
            <a:ext cx="73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076360" y="1773360"/>
            <a:ext cx="71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19640" y="1773360"/>
            <a:ext cx="289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08720" y="1773360"/>
            <a:ext cx="3585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42:18Z</dcterms:created>
  <dc:creator>User</dc:creator>
  <dc:description/>
  <dc:language>en-US</dc:language>
  <cp:lastModifiedBy>User</cp:lastModifiedBy>
  <dcterms:modified xsi:type="dcterms:W3CDTF">2009-03-13T14:52:44Z</dcterms:modified>
  <cp:revision>7</cp:revision>
  <dc:subject/>
  <dc:title>Повторение по теме «Деепричастие»</dc:title>
</cp:coreProperties>
</file>